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58A-6E17-4463-AB99-0EE6236B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773-2BC3-4BF7-A7B6-7CE671A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CA7-5C16-40A1-BAC1-1FFC0D01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078-15A4-42C5-8721-AAFE5114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9704-CD19-4DA8-A6D6-BEC71B60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AEC4-6CD3-43FC-A9F4-017AF61E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A1B4-3DEA-4C6B-9625-E5BDDAB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80D9-0C59-4222-A8C8-E7C67C74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D27C-5DD7-46A3-9A99-92CDC2D1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7A6-FCAA-43CB-8DE9-974AC763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D24D-42D6-4BE4-9200-B25AE27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2E73-FAEC-4B39-8DC6-F670B33F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9F26-0570-4E57-8D0B-89FEDEE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9B51-51D5-4890-A50D-5960EA99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4F6-9206-4990-AC4C-845A7429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D47-F68D-420C-B50A-3CA4B1EF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3876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6800" y="175212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072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3876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6800" y="3782160"/>
            <a:ext cx="18644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1B1-7198-44FD-B88D-071456E4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CC5-CD63-45F2-89B1-0020D0DF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AB3-95A0-423B-9972-D2F9C40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339-813D-41B8-A2B3-8A23113B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819000"/>
            <a:ext cx="5791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CC1-4A0A-44DD-A56A-72F1A12F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9CD-6F3E-4DB4-81F9-2DB88B4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560" y="378216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D7A-DF8B-4532-BDB8-A6E3339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560" y="1752120"/>
            <a:ext cx="2826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3782160"/>
            <a:ext cx="579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17F-59D2-420E-8138-18ABE805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0857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42884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771560" indent="-22860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771560" indent="-228600">
              <a:spcBef>
                <a:spcPts val="15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6BE8-2E6D-43B9-AACE-C591FE121847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80920" y="6248520"/>
            <a:ext cx="38862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43440" y="6248520"/>
            <a:ext cx="6858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7C2E-6409-4355-9473-ABBB80CA3C90}" type="slidenum"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f8f8f8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771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hapter Five Review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ptember 28, 2007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8) Explain impression management theor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eks to explain how people work to project a positive self-imag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ant to be perceived as credib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gaging in impression management is persuas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y include facework (negotiating social standing with other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) Why do persuasion researchers avoid the term charisma in favor of ethos or credibility?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isma is term that many people use to describe an indefinable charm or allu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harisma has no clear precise mean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thos or credibility can be defined and measur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) In the chapter, credibility is decribed as a receiver-based construct, a multidimensional construct, a situational/contextual phenomenon, and as being dynamic.  Explain each of these descriptors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eiver-based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is a perceptual phenomen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t does not reside in the sour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ifferent people perceive different indivduals’ credibility differentl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ultidimension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represents a composite of several characteristics that receivers perceive in a sour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Question 2 continued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tuational/contextua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changes are you move from one context to anoth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redibility can change over tim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t fluctuates from audience to audience, situation to situa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3) Explain the primary dimensions of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pertise (competence or qualification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nowing your material or appearing to know 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rustworthiness (character, safety, goodwill, personal integrity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ppears hones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ppears to have your best interests at hear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) Explain the secondary dimensions of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troversion (dynamism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intain the appropriate level of energy to the situ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posu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urce remains calm, cool, collect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oci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riendliness or likeabilit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spir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w enthusiastic or energetic the source makes oth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5) Describe the absolute sleeper effect and the relative sleeper effect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rst: persuasive messages fade as time pas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message from a low credibility source may increase in persuasiveness as time pas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solute  sleeper effect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lative sleeper effect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s phenomenon is inconsistent and not well understoo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6) Discuss at least three of the nine strategies you can use to enhance your credibility.  Include analysis of the types of listener or audience each would be effective for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e prepar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ite evidence and identify your sour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plain your background and experti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ttempt to build trust by showing you have the receivers’ best interest at hear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ppropriate language and deliver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e assertiv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mphasize your similarities to the receiver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rease receiver involveme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ave another credible source introduce your or endorse you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8190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7) Explain the two basic types of strategies used in restoring an institution’s credibility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79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cus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essen responsibility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ustific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e act wasn’t that ba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20:47:09Z</dcterms:created>
  <dc:creator>nuhs</dc:creator>
  <dc:description/>
  <dc:language>en-US</dc:language>
  <cp:lastModifiedBy>nuhs</cp:lastModifiedBy>
  <dcterms:modified xsi:type="dcterms:W3CDTF">2007-09-28T17:31:04Z</dcterms:modified>
  <cp:revision>4</cp:revision>
  <dc:subject/>
  <dc:title>Chapter Five Review</dc:title>
</cp:coreProperties>
</file>